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3A0C-EA8D-4396-A1D6-894BBDF7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8EC8-FE8C-4E92-BF88-C39DC7B6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03A-4B4D-4060-9037-F9CC15EC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D39-D8C6-41F1-B47D-1549FFB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B17-5B2C-4F97-AD8A-EB9998C0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2B2-39DD-4E2D-9375-6ECF5F57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3B5-56A6-4A72-A864-0A245452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FFD-F3AA-4C6C-AFFB-CE875B8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553-841D-45A7-945D-FB802B58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7AC-CFC7-4799-B424-74B91896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887-0A97-4065-81F0-211A4DB0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C39-9D50-4718-91D7-9E359C3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3A2-7553-4C37-A3C5-3019E30A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ACF-E7A7-4CC6-A415-8CE08E8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5B8-7202-467C-9880-E18E961C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ania Elsanho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 Yo y mis amigos tenemos pad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¿Monica la maravillosa y Christy la lo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ueden ir a comer helado?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Nos vem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blamos luego. Adios &lt;3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é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Hola mi lindas amigas! Yo puedo ir pero ella no puede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www ¿por qué? ¿cuándo y dónde tú quieres verme?                      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en la mancha en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Ciao nosotros nos vemos ahí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bonitas! Yo tengo hambre. ¿Quié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73640" y="64008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56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3"/>
          <a:stretch/>
        </p:blipFill>
        <p:spPr>
          <a:xfrm>
            <a:off x="2209680" y="3809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4"/>
          <a:stretch/>
        </p:blipFill>
        <p:spPr>
          <a:xfrm>
            <a:off x="2133720" y="51814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"/>
          <a:stretch/>
        </p:blipFill>
        <p:spPr>
          <a:xfrm>
            <a:off x="2082960" y="3200400"/>
            <a:ext cx="66024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7"/>
          <a:stretch/>
        </p:blipFill>
        <p:spPr>
          <a:xfrm>
            <a:off x="2057400" y="594360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"/>
          <p:cNvPicPr/>
          <p:nvPr/>
        </p:nvPicPr>
        <p:blipFill>
          <a:blip r:embed="rId8"/>
          <a:stretch/>
        </p:blipFill>
        <p:spPr>
          <a:xfrm>
            <a:off x="152280" y="5257800"/>
            <a:ext cx="533520" cy="45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"/>
          <p:cNvPicPr/>
          <p:nvPr/>
        </p:nvPicPr>
        <p:blipFill>
          <a:blip r:embed="rId9"/>
          <a:stretch/>
        </p:blipFill>
        <p:spPr>
          <a:xfrm>
            <a:off x="762120" y="52578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2" descr=""/>
          <p:cNvPicPr/>
          <p:nvPr/>
        </p:nvPicPr>
        <p:blipFill>
          <a:blip r:embed="rId10"/>
          <a:stretch/>
        </p:blipFill>
        <p:spPr>
          <a:xfrm>
            <a:off x="1447920" y="52578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"/>
          <p:cNvPicPr/>
          <p:nvPr/>
        </p:nvPicPr>
        <p:blipFill>
          <a:blip r:embed="rId12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05Z</dcterms:created>
  <dc:creator>FriscoISD</dc:creator>
  <dc:description/>
  <dc:language>en-US</dc:language>
  <cp:lastModifiedBy>User</cp:lastModifiedBy>
  <dcterms:modified xsi:type="dcterms:W3CDTF">2013-01-02T14:08:21Z</dcterms:modified>
  <cp:revision>108</cp:revision>
  <dc:subject/>
  <dc:title>Profile</dc:title>
</cp:coreProperties>
</file>